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0ECB-73FC-4EF9-819D-F751A5F96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D1E-BDFB-470E-9D60-B26AB3C4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A31-AE8A-40C9-A652-AE67E5AD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F7C-3D36-4CCC-A026-F85B3AAA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623-F2E1-4B5D-A588-F66C4305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766-1285-4F52-BFE7-A8B83570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7F5-DE4B-4F5B-A749-6274FAA6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FE6-13D7-4AD8-8513-8EDB43C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AEB-FCBF-4154-8731-5346B907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29F-4569-4B4D-96EA-1C7EF07F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C1C-51DE-4AE8-8AA0-7E74B57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B18-F2AB-46C5-8CD0-74B8BA9C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8AA-C27C-49A1-8866-D9B50F9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3E32-D99D-4031-A99B-E79C7BE0F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МОУ Тудовская основная общеобразовате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сследовате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«Боевой пу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158 стрелковой дивиз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Выполнил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обучающийся 6 класса Гребенюк Андр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обучающаяся 8 класса Гребенюк Надеж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Руководитель:учитель истории Гребенюк А.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201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Формирование дивиз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57800" y="137124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К концу декабря 1941г. дивизия была сформирована, вооружена штатным оружием и достаточно подготовлена для ведения наступательных и оборонительных боевых действ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525780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Битва за Москв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38320" y="1143000"/>
            <a:ext cx="3048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3100" spc="-1" strike="noStrike">
                <a:solidFill>
                  <a:srgbClr val="990099"/>
                </a:solidFill>
                <a:latin typeface="Arial"/>
              </a:rPr>
              <a:t>В первую победу над врагом в великой битве за Москву внесла свой вклад и 5-я Московская стрелковая дивизия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5105520" cy="3970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5257800"/>
            <a:ext cx="571500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«1941г. Артиллеристы на боевой позиции (Калужское шоссе)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оздание 158 стрелковой дивиз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4120" y="914400"/>
            <a:ext cx="3581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0 января 1942 года 5-я Московская стрелковая дивизия была переименована в 158 стрелковую дивиз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5181480" cy="4605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638680"/>
            <a:ext cx="6553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«Вручение знамени 881 стрелкового пол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май 1942г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и за Холме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12 февраля 1942 г. дивизия была отправлена для боевых действий на Калининский фро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В составе 22-й армии она вступила в тяжелые наступательные бои. На рассвете 16 февраля 1942 г. подразделения дивизии произвели первые выстрелы из своего оружия на подступах к сильно укрепленной линии обороны – крупному селу Холмец со старинной церковью. Село было расположено на господствующей и сильно укрепленной ледяным валом и огневыми точками высоте, а вокруг располагались опорные пункты в деревнях Васильки, Макарово, Подосинники, Жиганово, Яблонька, Сазоново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8229600" cy="3260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Подвиг Левина Абрама Исаакович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22 февраля 1942 г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 бою за с. Холмец Оленинского р-на Калининской об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14000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571500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Левин Абрам Исаакович 1918 г.р. - рядовой   879 сп 158 с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Памятник Левину Абраму Исаакови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520" y="1495440"/>
            <a:ext cx="72025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евые потер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4120" y="9907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990099"/>
                </a:solidFill>
                <a:latin typeface="Arial"/>
              </a:rPr>
              <a:t>158-я стрелковая дивизия, неся огромные потери, уже 26 марта 1942 года была отведена в резерв для пополн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75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99"/>
                </a:solidFill>
                <a:latin typeface="Arial"/>
              </a:rPr>
              <a:t>За месяц с конца февраля по конец марта 1942 года дивизия из 11 350 человек потеряла 7493 человека. Из них убитыми – 1415, пропавшими без вести – 1121, ранеными – 4835, больными – 104 челове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647960" cy="375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4800600"/>
            <a:ext cx="495288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После изучения именных списков потерь дивизии оказалось, что в районе деревни Поддубная не было «погибших и похороненных», а были только «пропавшие без вести в бою». Их оказалось 64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Захват плацдарма на р.Тудовка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c66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158 дивизия  с тяжелыми боями вышла на рубеж Севостьяново - Орехово и заняла активную оборону на  р.Тудовка.      881 стрелковый полк под командованием майора Ларичева Р.М. при поддержке батальона танков в наступательных боях освободил деревни Жуково, Денесова и вышел на правый берег р. Тудов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34340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Григорий Терентьевич Ильченк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7240" y="83808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lang="ru-RU" sz="2300" spc="-1" strike="noStrike">
                <a:solidFill>
                  <a:srgbClr val="990099"/>
                </a:solidFill>
                <a:latin typeface="Arial"/>
              </a:rPr>
              <a:t>Командование 158-ой стрелковой дивизии хорошо знало артиллерийский дивизион коммуниста Григория Ильченко. До Ржевских боёв под Калининым Ильченко успел пройти настоящую школу мужества, стойкости и отваги. То, что Григорий вынес под Москвой в осенне-зимние дни и тяжелейшие месяцы рокового 1941-го года, закалило его волю, дало полную уверенность в победе над враго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3920" y="914400"/>
            <a:ext cx="376236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Форсирование р.Вол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14800" y="91440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В мае 1942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158 стрелковая дивизия  форсировала р. Волгу в районе д. Большиково и заняла плацдарм на ее правом берегу.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657600" cy="4724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3920" y="5562720"/>
            <a:ext cx="44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«Командир дивиз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Бусаров Михаил Михайлович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990099"/>
                </a:solidFill>
                <a:uFillTx/>
                <a:latin typeface="Arial"/>
              </a:rPr>
              <a:t>Характер проекта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: коллективный.</a:t>
            </a:r>
            <a:br>
              <a:rPr sz="4400"/>
            </a:br>
            <a:r>
              <a:rPr b="1" lang="en-US" sz="4400" spc="-1" strike="noStrike" u="sng">
                <a:solidFill>
                  <a:srgbClr val="990099"/>
                </a:solidFill>
                <a:uFillTx/>
                <a:latin typeface="Arial"/>
              </a:rPr>
              <a:t>Продолжительность работы над проектом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:  январь-май 2010г.</a:t>
            </a:r>
            <a:br>
              <a:rPr sz="4400"/>
            </a:br>
            <a:r>
              <a:rPr b="1" lang="en-US" sz="4400" spc="-1" strike="noStrike" u="sng">
                <a:solidFill>
                  <a:srgbClr val="990099"/>
                </a:solidFill>
                <a:uFillTx/>
                <a:latin typeface="Arial"/>
              </a:rPr>
              <a:t>Режим работы над проектом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: вне учебной деятельнос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пасённые жизни солда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09720" y="1371240"/>
            <a:ext cx="3124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В этих боях 158 стрелковая дивизия понесла большие потери, но очень многим бойцам сумели спасти жизни медицинские работни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5029200" cy="3619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51055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Хирурги Рендель и Лукерчик оперируют ране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чало операции «Мар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990099"/>
                </a:solidFill>
                <a:latin typeface="Arial"/>
              </a:rPr>
              <a:t>В октябре 1942 г. войскам 39-й армии была поставлена задача: прочно удерживая на своем левом и правом флангах занимаемый рубеж, в центре подготовить и нанести три одновременных удара (один главный и два вспомогательных), прорвать оборону противника, уничтожить его противостоящую 206-ю пехотную дивизию и овладеть рубежом Молодой Туд, Урдом, Зайце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4190760" cy="3503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Вперёд на запа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3962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Со 2 марта 1943г. дивизия под командованием полковника Безуглого И.С. вела ожесточенные бои на Ржевской дуг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За 26 дней дивизия с боями прошла 250 км и освободила 288 населенных пун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49240" y="1143000"/>
            <a:ext cx="3570480" cy="441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60958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6386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Командир дивизии Безуглый Иван Семё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свобождение г.Рж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2880" y="990360"/>
            <a:ext cx="3810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6600"/>
                </a:solidFill>
                <a:latin typeface="Arial"/>
              </a:rPr>
              <a:t>          </a:t>
            </a: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Операция, в ходе которой  был освобожден Ржев, проведена 2-31 марта 1943 г. войсками Калининского и Западного фронтов с целью уничтожения противника на Ржевско-Вяземском плацдарме. Потери советских войск в операции составили 138577 челове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-main-pic" descr="Картинка 12 из 36"/>
          <p:cNvPicPr/>
          <p:nvPr/>
        </p:nvPicPr>
        <p:blipFill>
          <a:blip r:embed="rId2"/>
          <a:stretch/>
        </p:blipFill>
        <p:spPr>
          <a:xfrm>
            <a:off x="228600" y="1447920"/>
            <a:ext cx="4902120" cy="4165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и на Смоленской земл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0060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</a:rPr>
              <a:t>В августе и сентябре 1943 г. дивизия вела бои за освобождение населённых пунктов Ломоносово, Афанасово, Клячино, Микулино в направлении     г.Лиозно, а после освобождения войсками западного фронта г. Смоленска дивизия начала бои на Витебском направлен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Штурм города Лиоз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23920" y="114300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10 октября 1943г. дивизия под командованием генерал-майора Безуглого И.С. штурмом овладела городом Лиозно - важным плацдармом гитлеровцев на подступах к городу Витебс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4680" y="1066680"/>
            <a:ext cx="36320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533412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Командир дивизии И.С.Безуглый на наблюдательном пунк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свобождение г. Лиоз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7120" y="1600200"/>
            <a:ext cx="2666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553440" cy="4794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563868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Траурный митинг. Прощание с бойцами, павшими в боях за город Лиоз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граждении дивиз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160" y="106668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За взятие города Лиозно Верховное командование Советской армии присвоило дивизии наименование “Лиозненской”    и наградило ее орденом “Красное Знамя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4691160" cy="5410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найперы на огневой поз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рославленные снайперы дивизии, повышая свое мастерство, имели на своем лицевом счету: младший сержант Саратов - 35 убитых фашистов, старшие сержанты Кияшев- 62, Копылов- до 2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4114800" cy="3048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632448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952880"/>
            <a:ext cx="40384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Снайперы Сарбаев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Царев на огневой поз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Подвиг разведч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00600" y="1294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На подступах к г.Витебску 27 героев 875 стрелкового полка во главе с лейтенантом Бесхлебным захватили господствующую высоту и удерживали ее в течение шести часов, выстояв против сотен фашистов, под адским огнем противника. Герои поклялись не уступать врагу ни пяди родной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419360" cy="3546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25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Работа над проектом включала в себя 5 этапов:</a:t>
            </a:r>
            <a:br>
              <a:rPr sz="44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целеполагание: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планирование (обсуждение    идей, определение сроков работы);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 сбор информации;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 обобщение и систематизация;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 представление полученных результатов рабо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Arial"/>
              </a:rPr>
              <a:t>В 6 часов утра 26 июня 1944г. воины 158 дивизии при взаимодействии с другими соединениями, захватили г.Витебск и водрузили в нем Красное знамя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свобождение г.Витеб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648320" cy="3592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49528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Витебск. Бой на подступах к городу у железной доро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Красное знамя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2700" spc="-1" strike="noStrike">
                <a:solidFill>
                  <a:srgbClr val="990099"/>
                </a:solidFill>
                <a:latin typeface="Arial"/>
              </a:rPr>
              <a:t>За освобождение г.Витебска дивизия была награждена вторым орденом “Красное знамя” и получила наименование ”158 Лиозненско – Витебская дважды Краснознаменная стрелковая дивизия”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1800000" cy="2076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600200" y="3581280"/>
            <a:ext cx="180036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и в  Прибал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После перегруппировки 20 июля 1944 г. дивизия заняла полосу в 22 км. по фронту, сковала значительные силы противника и подготовилась нанести удар в направлении городов Козельва, Укмерге /Вильксмир/. Перейдя в наступление на подготовленную оборону противника, части дивизии после тяжелых 2-х дневных боев сломили сопротивление врага, форсировали р.Швентойн и во взаимодействии с частями 626 стрелковой дивизии ворвались в гор. Укмерге и овладели им 24 июля 1944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Бой за хутор Межонт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409720" y="1295280"/>
            <a:ext cx="3505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Arial"/>
              </a:rPr>
              <a:t>        </a:t>
            </a:r>
            <a:r>
              <a:rPr b="1" lang="en-US" sz="2900" spc="-1" strike="noStrike">
                <a:solidFill>
                  <a:srgbClr val="990099"/>
                </a:solidFill>
                <a:latin typeface="Arial"/>
              </a:rPr>
              <a:t>Это смелое, стремительное и глубокое вклинивание частей дивизии поколебало противника и обеспечило продвижение вперед соседних подразделен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5105160" cy="4047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Штурм г. Кедайня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4120" y="114264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90099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990099"/>
                </a:solidFill>
                <a:latin typeface="Arial"/>
              </a:rPr>
              <a:t>Обходным маневром 2-мя полками с юга и юго-запада дивизия вошла в тыл врага, создала угрозу путям его отхода на запад и одновременно ударом с востока , 2 августа 1944 г. штурмом были взяты гор. Кедайняй и д. Иосвайняй, дивизия глубоко вклинилась в немецкие порядки до Руссейцы-19 км западнее гор. Кедайняй/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5181840" cy="3838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граждение диви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Arial"/>
              </a:rPr>
              <a:t>За отличие в боях в Прибалтике, овладение городами и населёнными пунктами и содействие во взятии 4 августа 1944 года города Каунас, дивизия была награждена орденом Суворова 2-й степени. 425 артиллерийский, 879 стрелковый полки награждены орденами «Красное Знамя», 875 и 881 стрелковые полки награждены орденами «Александр Невский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2280" y="1332000"/>
            <a:ext cx="4876920" cy="3686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0" y="5181480"/>
            <a:ext cx="531972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Торжественный сбор дивизии по случа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награждения ее орденом Красного Зна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Выступает генерал-майор Городинский</a:t>
            </a: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Форсирование р. Дуб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0552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Arial"/>
              </a:rPr>
              <a:t>4 августа 1944г. дивизия форсировала р. Дубиса и, прорвав сильно укрепленную оборону противника, продолжала наступать в направлении г. Расийняй. Овладев плацдармом на р. Дубиса, дивизия обеспечила дальнейшее продвижение корпус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1488960"/>
            <a:ext cx="4952880" cy="4046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и за г. Мажейкя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765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990099"/>
                </a:solidFill>
                <a:latin typeface="Arial"/>
              </a:rPr>
              <a:t>Ведя тяжёлые бои в лесах, дивизия выполнила поставленные задачи командования и вышла к реке Западная Двина. 12 октября 1944г. дивизия в составе стрелкового корпуса вышла на Либавское направление и заняла оборону по южному берегу р.Вета, юго-восточнее и западнее г.Мажейкя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724280" cy="3674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920" y="510552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Солдаты майора Карпова преследуют против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Митинг День Поб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50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После боев по освобождению Прибалтики дивизия принимала участие в заключительной Берлинской операции в составе 2-го Белорусского фронт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4876920" cy="367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" y="5257800"/>
            <a:ext cx="61722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Германия. Работник политотд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Иоффе проводит митинг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День Победы 9 мая 1945 года.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Расформирование дивиз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839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«1945г. Демобилизованный состав дивизии возвращается на Родин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05120" y="909720"/>
            <a:ext cx="6248160" cy="4514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редлагаемый учебный проект посвящён 65-летию Великой Поб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99"/>
                </a:solidFill>
                <a:uFillTx/>
                <a:latin typeface="Arial"/>
              </a:rPr>
              <a:t>Цель проекта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 : изучение героического боевого пути 158  стрелковой дивизии, которая участвовала в боях на Ржевской земле в период Великой Отечественной войн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икто не забыт и ничто не забы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27160" y="6284880"/>
            <a:ext cx="717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61722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6019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На Братском захоронении в деревне Погорелки 9 мая 2009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62120" y="1371600"/>
            <a:ext cx="7924680" cy="23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1 июня 1941г. - начало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391520" cy="5236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родвиж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фашис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восто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52480" y="1744560"/>
            <a:ext cx="617220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перац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Тайфун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9720" y="837720"/>
            <a:ext cx="4495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В сентябре 1941г. Гитлер решил сосредоточить все силы на главном направлении - на Москву. 6 сентября 1941 года он подписывает директиву о генеральном наступлении на советскую столицу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55627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бучение ополчен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1640" y="12952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        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В октябре1941г. в Москве были сформированы четыре дивизии, из истребительных батальонов. Сначала они получили именования 2-й, 3-й, 4-й и 5-й московских стрелковых дивизий, но впоследствии были переименованы соответственно в 129-ю, 130-ю, 155-ю и 158-ю стрелковые дивиз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495680" cy="3443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ожайская линия оборо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1640" y="91440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90099"/>
                </a:solidFill>
                <a:latin typeface="Arial"/>
              </a:rPr>
              <a:t>Можайская линия обороны - оборонительный рубеж советских войск, создававшийся в 1941 году на западном стратегическом направлении с целью прикрыть дальние подступы к Москве. Можайская линия обороны простиралась с севера на юг от "Московского моря", западнее Волоколамска и Можайска до слияния Угры с Окой (230 километров). По плану Можайская линия обороны должна была включать 3 оборонительные полосы - главную и две тыловые, отстоящие одна от другой на 30 - 60 километров, а также промежуточные и отсечные позиции между ними. Общая глубина оборонительного рубежа достигала 120 - 130 километров. В соответствии с решением ГКО от 16 июля и приказом Ставки ВГК от 18 июля строительство главной оборонительной полосы в последней декаде июля 1941 года начали полевые войска с передним краем по линии р. Лама, Волоколамск, Бородино, Ильинское, Детчино, Калуга, Тула. Вторая полоса обороны оборудовалась на рубеже Клин, Дорохово, Высокиничи, третья - Хлебниково, Нахабино, Домодедово. С конца июля общее руководство работами было возложено на оперативную группу Московского военного округа во главе с генерал - майором А. И. Кудряшов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572000" cy="5867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удовская</cp:lastModifiedBy>
  <dcterms:modified xsi:type="dcterms:W3CDTF">2010-04-22T12:51:50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